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lap.wav" ContentType="audio/x-wav"/>
  <Override PartName="/ppt/media/chimes.wav" ContentType="audio/x-wav"/>
  <Override PartName="/ppt/media/drumroll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1EB-C21E-440F-BD1F-64EB45DE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F22-C1FB-4144-B81D-BE2160A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64E-6A7C-449C-AF5F-5F26B3C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CEF-2486-4D29-90C3-A1BE891E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E2E-03BB-40D5-8411-8FE2072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D20-E5F1-4832-8238-C232562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521-BD13-45FB-9A7D-447684F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C66-54DA-4A08-BBC8-9F4E65EF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B66-89E5-4457-BEE5-CE4B225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B29-0F88-4121-A985-8D6C42C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6A2-8999-4EA2-A50D-C6ACA6B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61F-0529-4870-AF3F-EBBE20D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8859-AA18-4A11-8A34-1F4EA798D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380880" y="496440"/>
            <a:ext cx="8153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tink Bug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Other True Bu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y: Mrs. F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rown_stink_bug_adult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265140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295280"/>
            <a:ext cx="8001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oes a stink bug really stink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990720"/>
            <a:ext cx="67816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Yes! A stink bug really does stink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19320"/>
            <a:ext cx="67816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stink bug is a true bug. It is an insect and has 6     legs.  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tink%20bug" descr=""/>
          <p:cNvPicPr/>
          <p:nvPr/>
        </p:nvPicPr>
        <p:blipFill>
          <a:blip r:embed="rId1"/>
          <a:stretch/>
        </p:blipFill>
        <p:spPr>
          <a:xfrm>
            <a:off x="349200" y="399960"/>
            <a:ext cx="84456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4343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.Fay is a librarian at Volney Elementary School. She loves to work with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students on research and Power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e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7:41:29Z</dcterms:created>
  <dc:creator>benos</dc:creator>
  <dc:description/>
  <dc:language>en-US</dc:language>
  <cp:lastModifiedBy>Fulton City School District</cp:lastModifiedBy>
  <dcterms:modified xsi:type="dcterms:W3CDTF">2011-01-07T18:47:38Z</dcterms:modified>
  <cp:revision>6</cp:revision>
  <dc:subject/>
  <dc:title>PowerPoint Presentation</dc:title>
</cp:coreProperties>
</file>